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C20-CC42-4BAD-B849-4D9B56A4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31E-B520-4360-A036-B9F71CC9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833-8533-44A5-ABBC-E68CC3B4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706-691D-45A7-90A2-79CC51C4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C99-24DB-44F8-8E1E-BB83E062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C1E-44AC-4181-A3D2-B7D19C16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D3C-6464-4983-AC85-632E7885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818-B83D-43B2-97AB-3FFAAB98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D5B-28CC-4ECF-B24D-98A90D50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E20-A7EF-492A-8DBA-48BC59E0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82F-0ABA-4EAC-8806-0486BE10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BCB-3F74-4695-9E54-11ED940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9D42-639D-43C8-8A4C-EC5EA4495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203480" y="731880"/>
            <a:ext cx="626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47920" y="380880"/>
            <a:ext cx="594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Order of Operations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-7920" y="-106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-7920" y="-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5" name="Rectangle 45"/>
          <p:cNvSpPr/>
          <p:nvPr/>
        </p:nvSpPr>
        <p:spPr>
          <a:xfrm>
            <a:off x="685800" y="2362320"/>
            <a:ext cx="9144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46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5181480" y="3429000"/>
            <a:ext cx="2130480" cy="3048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2514600" y="434340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Meet </a:t>
            </a:r>
            <a:endParaRPr b="0" lang="en-US" sz="4000" spc="-1" strike="noStrike">
              <a:solidFill>
                <a:srgbClr val="00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Aunt Sally</a:t>
            </a:r>
            <a:endParaRPr b="0" lang="en-US" sz="4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ccffcc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(9+1)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+ 6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09680" y="22096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(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10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)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6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743200" y="31240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Cooper Black"/>
              </a:rPr>
              <a:t>3(10)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+</a:t>
            </a: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36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276720" y="419112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30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+36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038480" y="502920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6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228600" y="1295280"/>
            <a:ext cx="8534520" cy="5181840"/>
          </a:xfrm>
          <a:prstGeom prst="flowChartMerge">
            <a:avLst/>
          </a:prstGeom>
          <a:solidFill>
            <a:srgbClr val="ccffcc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5 x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(6-2)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09680" y="22096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5 x 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200400" y="34290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4+</a:t>
            </a:r>
            <a:r>
              <a:rPr b="0" lang="en-US" sz="8000" spc="-1" strike="noStrike">
                <a:solidFill>
                  <a:srgbClr val="cc0000"/>
                </a:solidFill>
                <a:latin typeface="Cooper Black"/>
              </a:rPr>
              <a:t>20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9880" y="45720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24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ffff99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371600" y="1219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 10 x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52480" y="21337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10 x 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8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14600" y="3124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4+ 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80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276720" y="42670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84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962520" y="50292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68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e3c7c1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143000" y="121932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1 +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10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76720" y="4191120"/>
            <a:ext cx="2895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057400" y="2666880"/>
            <a:ext cx="49528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981080" y="24382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1+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100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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Cooper Black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2590920" y="358128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1 + 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733920" y="449568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31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ccccff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10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7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2 x 5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752480" y="220968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10+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49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–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 x 5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362320" y="31240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10+49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 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10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276720" y="419112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59 - 10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038480" y="502920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9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cc99ff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143000" y="16002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64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7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(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  <a:ea typeface="Times New Roman"/>
              </a:rPr>
              <a:t>9 x 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-19)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05120" y="25909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oper Black"/>
              </a:rPr>
              <a:t>64</a:t>
            </a:r>
            <a:r>
              <a:rPr b="1" lang="en-US" sz="7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7000" spc="-1" strike="noStrike">
                <a:solidFill>
                  <a:srgbClr val="000000"/>
                </a:solidFill>
                <a:latin typeface="Cooper Black"/>
              </a:rPr>
              <a:t>(</a:t>
            </a:r>
            <a:r>
              <a:rPr b="0" lang="en-US" sz="7000" spc="-1" strike="noStrike" u="sng">
                <a:solidFill>
                  <a:srgbClr val="cc0000"/>
                </a:solidFill>
                <a:uFillTx/>
                <a:latin typeface="Cooper Black"/>
              </a:rPr>
              <a:t>27 </a:t>
            </a:r>
            <a:r>
              <a:rPr b="0" lang="en-US" sz="7000" spc="-1" strike="noStrike" u="sng">
                <a:solidFill>
                  <a:srgbClr val="000000"/>
                </a:solidFill>
                <a:uFillTx/>
                <a:latin typeface="Cooper Black"/>
              </a:rPr>
              <a:t>–19</a:t>
            </a:r>
            <a:r>
              <a:rPr b="0" lang="en-US" sz="7000" spc="-1" strike="noStrike">
                <a:solidFill>
                  <a:srgbClr val="000000"/>
                </a:solidFill>
                <a:latin typeface="Cooper Black"/>
              </a:rPr>
              <a:t>)</a:t>
            </a:r>
            <a:r>
              <a:rPr b="0" lang="en-US" sz="7200" spc="-1" strike="noStrike" u="sng">
                <a:solidFill>
                  <a:srgbClr val="ffffff"/>
                </a:solidFill>
                <a:uFillTx/>
                <a:latin typeface="Cooper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048120" y="3809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64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6600" spc="-1" strike="noStrike">
                <a:solidFill>
                  <a:srgbClr val="ffffff"/>
                </a:solidFill>
                <a:latin typeface="Cooper Black"/>
              </a:rPr>
              <a:t> </a:t>
            </a: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191120" y="50292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oulder"/>
              </a:rPr>
              <a:t> </a:t>
            </a:r>
            <a:r>
              <a:rPr b="0" lang="en-US" sz="10000" spc="-1" strike="noStrike">
                <a:solidFill>
                  <a:srgbClr val="0000ff"/>
                </a:solidFill>
                <a:latin typeface="Boulder"/>
              </a:rPr>
              <a:t>Have fun doing the Order of </a:t>
            </a:r>
            <a:r>
              <a:rPr b="0" lang="en-US" sz="100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n-US" sz="10000" spc="-1" strike="noStrike">
                <a:solidFill>
                  <a:srgbClr val="0000ff"/>
                </a:solidFill>
                <a:latin typeface="Boulder"/>
              </a:rPr>
              <a:t> Operations!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ubway"/>
              </a:rPr>
              <a:t>The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Subway"/>
              </a:rPr>
              <a:t>Order of Operations </a:t>
            </a:r>
            <a:r>
              <a:rPr b="1" lang="en-US" sz="5400" spc="-1" strike="noStrike">
                <a:solidFill>
                  <a:srgbClr val="000000"/>
                </a:solidFill>
                <a:latin typeface="Subway"/>
              </a:rPr>
              <a:t>tells us how to do a math problem with more than one operation, in the correct order</a:t>
            </a:r>
            <a:r>
              <a:rPr b="0" lang="en-US" sz="5400" spc="-1" strike="noStrike">
                <a:solidFill>
                  <a:srgbClr val="000000"/>
                </a:solidFill>
                <a:latin typeface="Subway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This will help to you to remember the order of operations.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28600" y="190512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lease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514600" y="495288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unt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838080" y="266688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xcuse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523880" y="3429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2057400" y="419112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D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ear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3124080" y="57913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ally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648320" y="1600200"/>
            <a:ext cx="447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arentheses   ( )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35600" y="2666880"/>
            <a:ext cx="236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xponents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8381880" y="22860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178600" y="3429000"/>
            <a:ext cx="339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ultiplication X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919040" y="4191120"/>
            <a:ext cx="182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D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ivision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5055120" y="4952880"/>
            <a:ext cx="35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ddition            +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4854600" y="5791320"/>
            <a:ext cx="398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ubtraction      -     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8118720" y="3505320"/>
            <a:ext cx="125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80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80880" y="1447920"/>
            <a:ext cx="8458200" cy="4087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oper Black"/>
              </a:rPr>
              <a:t>Parentheses (    )</a:t>
            </a:r>
            <a:endParaRPr b="0" lang="en-US" sz="7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67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990720" y="3429000"/>
            <a:ext cx="2130480" cy="30481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3"/>
          <p:cNvSpPr/>
          <p:nvPr/>
        </p:nvSpPr>
        <p:spPr>
          <a:xfrm>
            <a:off x="2666880" y="3048120"/>
            <a:ext cx="4572000" cy="2133360"/>
          </a:xfrm>
          <a:prstGeom prst="wedgeEllipseCallout">
            <a:avLst>
              <a:gd name="adj1" fmla="val -50069"/>
              <a:gd name="adj2" fmla="val 82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Always do parentheses 1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st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1295280"/>
            <a:ext cx="8686800" cy="5945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Cooper Black"/>
              </a:rPr>
              <a:t>Exponents 4</a:t>
            </a:r>
            <a:r>
              <a:rPr b="0" lang="en-US" sz="9500" spc="-1" strike="noStrike">
                <a:solidFill>
                  <a:srgbClr val="000000"/>
                </a:solidFill>
                <a:latin typeface="Cooper Black"/>
              </a:rPr>
              <a:t>3</a:t>
            </a:r>
            <a:endParaRPr b="0" lang="en-US" sz="9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72" name="Picture 13" descr="C:\Documents and Settings\Owner\Application Data\Microsoft\Media Catalog\Downloaded Clips\cl0\AG00312_.gif"/>
          <p:cNvPicPr/>
          <p:nvPr/>
        </p:nvPicPr>
        <p:blipFill>
          <a:blip r:embed="rId1"/>
          <a:stretch/>
        </p:blipFill>
        <p:spPr>
          <a:xfrm>
            <a:off x="696960" y="2743200"/>
            <a:ext cx="2502000" cy="358128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4"/>
          <p:cNvSpPr/>
          <p:nvPr/>
        </p:nvSpPr>
        <p:spPr>
          <a:xfrm>
            <a:off x="2895480" y="2514600"/>
            <a:ext cx="4572000" cy="2133720"/>
          </a:xfrm>
          <a:prstGeom prst="wedgeEllipseCallout">
            <a:avLst>
              <a:gd name="adj1" fmla="val -50069"/>
              <a:gd name="adj2" fmla="val 82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Always do Exponents 2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nd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80880" y="1219320"/>
            <a:ext cx="7239240" cy="53305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Multiply    x   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Divide  </a:t>
            </a:r>
            <a:r>
              <a:rPr b="1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4400" spc="-1" strike="noStrike">
                <a:solidFill>
                  <a:srgbClr val="000000"/>
                </a:solidFill>
                <a:latin typeface="Cooper Black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77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1295280" y="3809880"/>
            <a:ext cx="1970280" cy="28195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3"/>
          <p:cNvSpPr/>
          <p:nvPr/>
        </p:nvSpPr>
        <p:spPr>
          <a:xfrm>
            <a:off x="3352680" y="2971800"/>
            <a:ext cx="4572000" cy="2819520"/>
          </a:xfrm>
          <a:prstGeom prst="wedgeEllipseCallout">
            <a:avLst>
              <a:gd name="adj1" fmla="val -50069"/>
              <a:gd name="adj2" fmla="val 50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Do multiplication and division 3</a:t>
            </a: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, from left to right.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80880" y="1219320"/>
            <a:ext cx="8077320" cy="38721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oper Black"/>
              </a:rPr>
              <a:t>Add +                                 </a:t>
            </a:r>
            <a:endParaRPr b="0" lang="en-US" sz="7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oper Black"/>
              </a:rPr>
              <a:t>Subtract -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1219320" y="3809880"/>
            <a:ext cx="213048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3"/>
          <p:cNvSpPr/>
          <p:nvPr/>
        </p:nvSpPr>
        <p:spPr>
          <a:xfrm>
            <a:off x="3276720" y="3886200"/>
            <a:ext cx="4572000" cy="2209680"/>
          </a:xfrm>
          <a:prstGeom prst="wedgeEllipseCallout">
            <a:avLst>
              <a:gd name="adj1" fmla="val -50069"/>
              <a:gd name="adj2" fmla="val 503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Do addition and subtraction 4th, from left to right.</a:t>
            </a:r>
            <a:endParaRPr b="0" lang="en-US" sz="28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ff"/>
                </a:solidFill>
                <a:latin typeface="Boulder"/>
              </a:rPr>
              <a:t> </a:t>
            </a:r>
            <a:r>
              <a:rPr b="0" lang="en-US" sz="13000" spc="-1" strike="noStrike">
                <a:solidFill>
                  <a:srgbClr val="0000ff"/>
                </a:solidFill>
                <a:latin typeface="Boulder"/>
              </a:rPr>
              <a:t>Let</a:t>
            </a:r>
            <a:r>
              <a:rPr b="0" lang="en-US" sz="130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13000" spc="-1" strike="noStrike">
                <a:solidFill>
                  <a:srgbClr val="0000ff"/>
                </a:solidFill>
                <a:latin typeface="Boulder"/>
              </a:rPr>
              <a:t>s Try Some  </a:t>
            </a:r>
            <a:r>
              <a:rPr b="0" lang="en-US" sz="130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n-US" sz="13000" spc="-1" strike="noStrike">
                <a:solidFill>
                  <a:srgbClr val="0000ff"/>
                </a:solidFill>
                <a:latin typeface="Boulder"/>
              </a:rPr>
              <a:t> Problems!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ff99cc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+2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(9+1)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438280" y="2209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 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124080" y="320040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Cooper Black"/>
              </a:rPr>
              <a:t>3+</a:t>
            </a:r>
            <a:r>
              <a:rPr b="0" lang="en-US" sz="6600" spc="-1" strike="noStrike" u="sng">
                <a:solidFill>
                  <a:srgbClr val="cc0000"/>
                </a:solidFill>
                <a:uFillTx/>
                <a:latin typeface="Cooper Black"/>
              </a:rPr>
              <a:t>8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-10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352680" y="4191120"/>
            <a:ext cx="24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11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-10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4191120" y="51055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0:51:45Z</dcterms:created>
  <dc:creator>Jennifer</dc:creator>
  <dc:description/>
  <dc:language>en-US</dc:language>
  <cp:lastModifiedBy>kandy.powers Powers</cp:lastModifiedBy>
  <dcterms:modified xsi:type="dcterms:W3CDTF">2012-03-17T22:05:32Z</dcterms:modified>
  <cp:revision>29</cp:revision>
  <dc:subject/>
  <dc:title>PowerPoint Presentation</dc:title>
</cp:coreProperties>
</file>